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8EC-D4FC-46D6-999A-D682BE49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A80-7654-44B3-A4E6-B8B2C2D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F2A-5677-4DC2-B232-67E84DF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5D0-4EC3-414C-89FD-6C8E4F49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D727-F3AB-4D30-901C-A4DD99AE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AC60-B43C-41DD-B27C-7AA1904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D1CE-26B3-4EF3-8C6D-64D72B07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5038-6600-4294-98CD-49B1B9E8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253C-41AF-40DD-8E6A-910FAEE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99A-E812-4EAD-9CBE-EA7DA4C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BE94-FC7B-45F1-AD71-8ED1C22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099-F50E-44DE-A530-0530D77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3FF-E3E2-4575-B137-CEEEC3E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B323-EBAE-4006-A648-787CC2E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67FB-B528-43BC-95EE-BF209048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FB5B-6D61-4ED3-AD96-69B428E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3E84-9004-46AB-8524-BC3B9388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FBF-2F8D-4721-AFAB-20FF056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143-906D-4392-9283-5C1975AC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97E-2292-4E48-A89C-87465EE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116-504F-42C3-9CBB-7564567C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422-4AB5-4BD0-9AE1-5C714E8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33D-C502-42F6-B349-1547C71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746-2CDA-4ABF-83C2-89BF6E42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6630-628C-4066-9490-1139CE603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580-040F-489E-AC12-90AF36688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ибы- отдельное царство организм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чем сходство грибов с животным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ичие хитинового пок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ас питатель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 питания гетеротроф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ервный питательный углевод- гликог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аются готовыми питательными веществ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ечным продуктом метаболизма азота является мочев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чем сходство грибов с растениям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т в течении всей 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и жизни не подвиж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размножения – споры и гриб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ХИЩНЫЕ ГРИ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ы ли грибы выслеживать, поджидать в засаде, ус­траивать ловушки? Учёные давно уже обнаруживали под микроскопом на грибнице некоторых почвенных грибов странные кольца неясного назначения. В 1888 г. немецкий учёный Цопф установил, что эти кольца служат для поимки нематод — живущих в почве червей размером около миллиметра. Почувствовав рядом с собой присутствие нема­тод, гриб срочно изготавливает своё «лассо», а также клейкие пузырьки, к которым прилипают неосторожные черви. После этого гриб разрастается в теле червя, оставляя от него пустую кож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грибов-«охотников» можно бороться с нематодами, снижающими урожай овощ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 каком виде вы хотели бы представить результаты своего труд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в своём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в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хочу показывать своё изделие ник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ламный бук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работы над проект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остоятельная исследовательская работа учащихс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в течение трех месяце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нализ данных, формулирование выводов, оформление работ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проводится учащимися самостоятельно во внеурочное время с представлением промежуточных результатов для проверки – в течение трех урок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ка отчета о проделанной работе в виде презентаци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внеурочно, консультирование один урок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щита работ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два уро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аю творческих успехов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6:53:04Z</dcterms:created>
  <dc:creator>07082</dc:creator>
  <dc:description/>
  <dc:language>en-US</dc:language>
  <cp:lastModifiedBy>07082</cp:lastModifiedBy>
  <dcterms:modified xsi:type="dcterms:W3CDTF">2009-11-09T08:05:41Z</dcterms:modified>
  <cp:revision>6</cp:revision>
  <dc:subject/>
  <dc:title>Грибы- отдельное царство организмов.</dc:title>
</cp:coreProperties>
</file>